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642-DDB9-49FB-BB27-D918DDFE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9AD-580F-47C4-AFE3-D29D39B3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745-57A9-48DD-95B7-D8A47EA3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626-A1D4-4AA8-9D2F-D84C02B7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213-598A-460D-8266-5A58C0A3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1C5-C0DF-4D6C-BD8B-674813E8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0F7-AD3F-4AB9-B3C0-B1EC7F3D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ED2-4CAE-4F37-B789-4949B340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F92-D9CC-433C-B4DA-48090159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977-52A5-4D6D-A7BE-0C941B5C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D86-8844-4FD3-8061-69400467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ADC-FA72-47EA-A7A9-E73BDD9B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902C-0BC4-4575-8873-A0814887A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an 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y Auc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is known for its bitter winters . The country’s harsh climate helped stop      various invaders during its history, including the large armies of Napoleon in 1812 and Adolf Hit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44:53Z</dcterms:created>
  <dc:creator> </dc:creator>
  <dc:description/>
  <dc:language>en-US</dc:language>
  <cp:lastModifiedBy> </cp:lastModifiedBy>
  <dcterms:modified xsi:type="dcterms:W3CDTF">2010-12-14T17:02:14Z</dcterms:modified>
  <cp:revision>2</cp:revision>
  <dc:subject/>
  <dc:title>Climate</dc:title>
</cp:coreProperties>
</file>